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F8A9-E8B2-4590-A05C-F8DE83AF7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60D3-9011-4560-AE5A-2E703C48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1AC5-3414-49D3-8CC2-255FDDF22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A055-A15C-4E64-BE8F-6941EA761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9E8B-1353-4154-8049-8C3FA9D3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DBBE-A8AA-428D-9FE1-483072EF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A91E-86EF-4ADC-8CE6-8C1A850E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0292-534F-4907-A24E-4C785844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04DB-4D0A-4BD3-AD4C-726F4710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171F-3CE7-4753-A540-08DE9E11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CB2A-94C9-4C08-B752-E7F186FA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C671-74E1-4B8D-9AA1-2BEEEA24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37F3-F94A-4CA5-A365-22BF624304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ine Specimen Standardized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147680" y="1212840"/>
          <a:ext cx="7229520" cy="477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1212840"/>
                    <a:ext cx="722952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3962520" y="601992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rporate Strengt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72200" y="61722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600200" y="6172200"/>
            <a:ext cx="2362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-135720" y="325836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rket attractive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990720" y="121896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987120" y="4495680"/>
            <a:ext cx="3240" cy="1067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9080" y="6400800"/>
            <a:ext cx="312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A Valu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VE Value Engine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155080" y="1905120"/>
            <a:ext cx="495360" cy="1447560"/>
          </a:xfrm>
          <a:custGeom>
            <a:avLst/>
            <a:gdLst/>
            <a:ahLst/>
            <a:rect l="l" t="t" r="r" b="b"/>
            <a:pathLst>
              <a:path w="312" h="912">
                <a:moveTo>
                  <a:pt x="1" y="912"/>
                </a:moveTo>
                <a:cubicBezTo>
                  <a:pt x="53" y="835"/>
                  <a:pt x="312" y="604"/>
                  <a:pt x="312" y="452"/>
                </a:cubicBezTo>
                <a:cubicBezTo>
                  <a:pt x="312" y="300"/>
                  <a:pt x="65" y="94"/>
                  <a:pt x="0" y="0"/>
                </a:cubicBezTo>
              </a:path>
            </a:pathLst>
          </a:custGeom>
          <a:noFill/>
          <a:ln w="255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0T14:39:28Z</dcterms:created>
  <dc:creator>Vauchel</dc:creator>
  <dc:description/>
  <dc:language>en-US</dc:language>
  <cp:lastModifiedBy>Vauchel</cp:lastModifiedBy>
  <cp:lastPrinted>2001-07-20T15:12:38Z</cp:lastPrinted>
  <dcterms:modified xsi:type="dcterms:W3CDTF">2001-07-20T15:16:41Z</dcterms:modified>
  <cp:revision>1</cp:revision>
  <dc:subject/>
  <dc:title>Nine Specimen Standardized Strategies</dc:title>
</cp:coreProperties>
</file>